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927C-3756-4D7C-A359-7A2B917E5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A128-6E92-453B-93CD-9B750C28D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5676-889C-44CC-ADD6-E2795FF69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DF51-AA84-41E2-9EE1-868581674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9BE08-F61E-4F97-93D9-E885CAAF9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3F5BB-F26C-4B7C-9E35-072AA99A1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3037E-00B2-44E6-A135-18C91397F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490A7-A40A-4977-8D87-853CF5AE6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8EF3A-AEF4-4234-A516-5C8BB44B3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80651-9B88-48C4-BC19-629E9C043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98EFA-08CC-41F3-95A9-46E49A458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3B45-81A1-4917-86EE-27B977794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374AD-F687-4D5D-A195-0605C59C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4B646-9C28-4F07-AD59-9DEBCF28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E8B7F-D838-41F0-B38F-CD6B850B3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CA666-16C6-4B3C-98EA-B1A6D9B49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C37C5-8D9C-4FE7-A24B-D05F30859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7D3E-192B-4E92-8299-D9505211A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A7A4-81D5-45B0-90E6-55E1C98B2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935D-4285-42A5-AA94-3364FA2A5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71BE-56CB-46BD-A362-4216C75FF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FA35-8343-43D6-850C-E7CECD530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86EC-3033-4AD7-9CD2-73ED27BAF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819F-943B-4A33-BBC5-90FD3E680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CF3F0-0F95-43B6-A7E5-8E330DFF4E6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64E8A-04EE-4D44-A014-D8EFC666DC9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16000" y="1196640"/>
            <a:ext cx="76471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333399"/>
                </a:solidFill>
                <a:latin typeface="Tahoma"/>
              </a:rPr>
              <a:t>Programy edukacyjne</a:t>
            </a:r>
            <a:br>
              <a:rPr sz="4000"/>
            </a:br>
            <a:r>
              <a:rPr b="1" lang="en-GB" sz="4000" spc="-1" strike="noStrike">
                <a:solidFill>
                  <a:srgbClr val="333399"/>
                </a:solidFill>
                <a:latin typeface="Tahoma"/>
              </a:rPr>
              <a:t>Unii Europejskiej 2007-2013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780000" y="3284640"/>
            <a:ext cx="5364000" cy="235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Comeniu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42920" y="2017800"/>
            <a:ext cx="7912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ele programu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ozwijanie wiedzy o różnorodności kultur i języków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uropejskich oraz zrozumienia jej wartości wśród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łodzieży i kadry nauczycielskie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omaganie młodym ludziom w nabyciu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p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dstawowych umiejętności i kompetencji życiowych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iezbędnych dla rozwoju osobistego, przyszłego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zatrudnienia i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ktywnego obywatelstwa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uropejskieg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Comeniu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ahoma"/>
              </a:rPr>
              <a:t>Program Comenius jest skierowany d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uczniów korzystających z edukacji szkolnej do końca szkoły średniej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szkół określonych przez państwa członkowskie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nauczycieli i pozostałego personelu tych szkół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stowarzyszeń, organizacji non profit, organizacji pozarządowych i przedstawicieli podmiotów związanych z oświatą szkolną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osób oraz podmiotów odpowiedzialnych za organizację i realizację oświaty i edukację na poziomie lokalnym, regionalnym i krajowym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podmiotów oferujących usługi w zakresie doradztwa zawodowego i poradnictwa, związane z jakimkolwiek aspektem uczenia się przez całe życi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Comeniu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Akcje zdecentralizowane Comeniusa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zarządzane przez Narodową Agencję Programu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artnerskie projekty szkół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elostronne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ustron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Kursy doskonalenia zawodowego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la kadry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dukacyjne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systentura Comeniu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Comeniu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17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Partnerskie projekty szkół – priorytety narodow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17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na 2008 rok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17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17400" indent="-60336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Wspieranie działań w zakresie wychowania przedszkolneg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1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17400" indent="-60336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Zwiększenie liczby projektów w szkołach, w których uczą się dzieci młodzież ze specjalnymi potrzebami edukacyjnymi (szkoły integracyjne, specjalne, szkoły przy ośrodkach szkolno-wychowawczych i socjoterapeutycznych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1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17400" indent="-60336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Promowanie szkół z województw o najmniejszej liczbie dotychczas zrealizowanych projektów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Comeniu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Partnerskie projekty szkół – informacje ogóln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Czas trwania projektu – 2 lata (2008 – 201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Termin składania wniosków – 16 lutego 2008 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Kwota dofinansowania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projektu jest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kwotą ryczałtową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określana na podstawie ilości wyjazdów zagraniczny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Kwota dofinansowania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jest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ypłacona transzach- I rata w wysokości 80%, II rata (20%)  po złożeniu i zatwierdzeniu przez Narodową Agencję końcowego raportu merytoryczneg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Comeniu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Kto może uczestniczyć w Partnerskich Projektach Szkół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Szkoły publiczne i niepubliczne 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funkcjonujące w systemie oświaty (art. 2 ustawy o systemie oświaty), gdzie realizowany jest obowiązek przedszkolny, szkolny oraz obowiązek nauki tj.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Przedszkola 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– w tym z oddziałami integracyjnymi oraz przedszkola specjaln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Szkoły podstawowe 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– w tym: specjalne, integracyjne, z oddziałami integracyjnymi i sportowymi, sportowe i mistrzostwa sportoweg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Gimnazja 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– w tym: specjalne, integracyjne, z oddziałami integracyjnymi, dwujęzycznymi, sportowymi i przysposabiającymi do pracy, sportowe i mistrzostwa sportoweg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Szkoły ponadgimnazjalne 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dla młodzieży – zasadnicze szkoły zawodowe, licea ogólnokształcące, licea profilowane, technika – w tym: specjalne, integracyjne, z oddziałami integracyjnymi, dwujęzycznymi i sportowymi, sportowe i mistrzostwa sportoweg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Artystyczne I i II stopnia 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- realizujące kształcenie ogólnokształcące łącznie z kształceniem artystyczny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Comeniu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1989000"/>
            <a:ext cx="45864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Partnerskie projekty szkó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2112600">
            <a:off x="3779640" y="2565360"/>
            <a:ext cx="485640" cy="719280"/>
          </a:xfrm>
          <a:prstGeom prst="downArrow">
            <a:avLst>
              <a:gd name="adj1" fmla="val 50000"/>
              <a:gd name="adj2" fmla="val 3702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19420200">
            <a:off x="5292720" y="2565000"/>
            <a:ext cx="485640" cy="692280"/>
          </a:xfrm>
          <a:prstGeom prst="downArrow">
            <a:avLst>
              <a:gd name="adj1" fmla="val 50000"/>
              <a:gd name="adj2" fmla="val 356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4360" y="3429000"/>
            <a:ext cx="3816360" cy="302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</a:rPr>
              <a:t>Projekty dwustro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dwie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lacówki edukacyjne z dwóch różnych kraj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cel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– głównie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romowanie nauki języków obc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 najmniej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jedna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</a:rPr>
              <a:t>wymiana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ucznió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max.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</a:rPr>
              <a:t>budżet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1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lub 20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tysięcy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003640" y="3429000"/>
            <a:ext cx="3961080" cy="302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Projekty wielostro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inimum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trzy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placówki z minimum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trzech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różnych kraj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projekt może obejmować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</a:rPr>
              <a:t>współpracę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uczniów lub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kadr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pedagogiczn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ej w zakresie m.in.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zarządzani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szkołą; metodyk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i; zagadnień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wychowawczy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ch;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rofilaktyk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max.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</a:rPr>
              <a:t>budżet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8 lub 20 tysięcy 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Comeniu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ahoma"/>
              </a:rPr>
              <a:t>Kursy doskonalenia zawodowego – dofinansowanie kro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ahoma"/>
              </a:rPr>
              <a:t>po kroku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Wybór kursu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Rezerwacja miejsca u organizatora (bez opłaty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Wypełnienie formularza aplikacyjneg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Przesłanie zgodnie z harmonogramem zgłoszeń, do Narodowej Agencji następujących dokumentów: </a:t>
            </a:r>
            <a:r>
              <a:rPr b="0" i="1" lang="pl-PL" sz="1800" spc="-1" strike="noStrike">
                <a:solidFill>
                  <a:srgbClr val="000000"/>
                </a:solidFill>
                <a:latin typeface="Tahoma"/>
              </a:rPr>
              <a:t>formularz aplikacyjny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(dwa egzemplarze w języku polskim), </a:t>
            </a:r>
            <a:r>
              <a:rPr b="0" i="1" lang="pl-PL" sz="1800" spc="-1" strike="noStrike">
                <a:solidFill>
                  <a:srgbClr val="000000"/>
                </a:solidFill>
                <a:latin typeface="Tahoma"/>
              </a:rPr>
              <a:t>zaświadczenie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o wstępnej rezerwacji miejsca na kursie od jego organizatora, </a:t>
            </a:r>
            <a:r>
              <a:rPr b="0" i="1" lang="pl-PL" sz="1800" spc="-1" strike="noStrike">
                <a:solidFill>
                  <a:srgbClr val="000000"/>
                </a:solidFill>
                <a:latin typeface="Tahoma"/>
              </a:rPr>
              <a:t>rekomendacja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od dyrektora szkoły w języku polskim, </a:t>
            </a:r>
            <a:r>
              <a:rPr b="0" i="1" lang="pl-PL" sz="1800" spc="-1" strike="noStrike">
                <a:solidFill>
                  <a:srgbClr val="000000"/>
                </a:solidFill>
                <a:latin typeface="Tahoma"/>
              </a:rPr>
              <a:t>program kursu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pl-PL" sz="1800" spc="-1" strike="noStrike">
                <a:solidFill>
                  <a:srgbClr val="000000"/>
                </a:solidFill>
                <a:latin typeface="Tahoma"/>
              </a:rPr>
              <a:t>formularz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„Informacje o wnioskodawcy i wybranym kursie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Każdy kandydat zostanie powiadomiony listownie o akceptacji lub odrzuceniu wniosku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Po powrocie należy rozliczyć się z grantu zgodnie z zasadami określonymi w umowi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Comeniu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26920" y="2017800"/>
            <a:ext cx="8128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Kto może uczestniczyć w kursach doskonalenia zawodowego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􀂄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uczyciele (uwzględniając nauczanie przedszkolne i zawodow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􀂄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yrektorzy szkó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􀂄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acownicy oświatowej komórki organu prowadzącego szkoł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􀂄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izytatorzy lub osoby wykonujące zadania w zakresie nadzor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edagogiczneg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􀂄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oradcy zawodow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􀂄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uczyciele/pracownicy pracujący z dziećmi zagrożonym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rginalizacją społeczn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Comeniu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Zasady obliczania i rozliczania grantu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Tahoma"/>
              </a:rPr>
              <a:t>Grant składa się z trzech części: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ahoma"/>
              </a:rPr>
              <a:t>kwoty przeznaczonej na pokrycie kosztów podróży z miejsca zamieszkania do miejsca kursu i z powrotem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ahoma"/>
              </a:rPr>
              <a:t>kwoty przeznaczonej na opłatę szkolenia/kursu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ahoma"/>
              </a:rPr>
              <a:t>kwoty przeznaczonej na utrzymanie (zakwaterowanie, wyżywienie i przejazdy lokalne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Tahoma"/>
              </a:rPr>
              <a:t>80% grantu wypłacane jest uczestnikowi przed rozpoczęciem kursu pozostałe 20% po rozliczeniu udziału w kursie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6560" y="691920"/>
            <a:ext cx="7936200" cy="24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333399"/>
                </a:solidFill>
                <a:latin typeface="Tahoma"/>
              </a:rPr>
              <a:t>Program</a:t>
            </a:r>
            <a:br>
              <a:rPr sz="4000"/>
            </a:br>
            <a:r>
              <a:rPr b="0" lang="pl-PL" sz="4000" spc="-1" strike="noStrike">
                <a:solidFill>
                  <a:srgbClr val="333399"/>
                </a:solidFill>
                <a:latin typeface="Tahoma"/>
              </a:rPr>
              <a:t>UCZENIE SIĘ</a:t>
            </a:r>
            <a:br>
              <a:rPr sz="4000"/>
            </a:br>
            <a:r>
              <a:rPr b="0" lang="pl-PL" sz="4000" spc="-1" strike="noStrike">
                <a:solidFill>
                  <a:srgbClr val="333399"/>
                </a:solidFill>
                <a:latin typeface="Tahoma"/>
              </a:rPr>
              <a:t>PRZEZ CAŁE ŻYCIE</a:t>
            </a:r>
            <a:br>
              <a:rPr sz="4000"/>
            </a:br>
            <a:r>
              <a:rPr b="0" lang="pl-PL" sz="4000" spc="-1" strike="noStrike">
                <a:solidFill>
                  <a:srgbClr val="333399"/>
                </a:solidFill>
                <a:latin typeface="Tahoma"/>
              </a:rPr>
              <a:t>2007 – 2013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2" name="fund-lifelong" descr=""/>
          <p:cNvPicPr/>
          <p:nvPr/>
        </p:nvPicPr>
        <p:blipFill>
          <a:blip r:embed="rId1"/>
          <a:stretch/>
        </p:blipFill>
        <p:spPr>
          <a:xfrm>
            <a:off x="3714840" y="3789360"/>
            <a:ext cx="44575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Comeniu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15640" y="1916280"/>
            <a:ext cx="763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Harmonogram składania wniosków 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dofinansowanie kursów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  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900000" y="3068640"/>
          <a:ext cx="7479000" cy="2448000"/>
        </p:xfrm>
        <a:graphic>
          <a:graphicData uri="http://schemas.openxmlformats.org/drawingml/2006/table">
            <a:tbl>
              <a:tblPr/>
              <a:tblGrid>
                <a:gridCol w="3882960"/>
                <a:gridCol w="3596040"/>
              </a:tblGrid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rmin złożenia formular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rmin rozpoczęcia kurs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-31 stycznia 200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kwietnia - 30 czerwc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lutego - 31 marc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lipca - 30 wrześni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 kwietnia - 30 czerw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października - 31 grudni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 lipca - 30 wrześni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stycznia - 31 marca 200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Comeniu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58920" y="20178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Kto może uczestniczyć w Asystenturze Comeniusa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zyszli nauczycie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tudenci kierunków prowadzących do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zdobycia kwalifikacji w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zawodzie nauczycie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zkoły polskie/uprawnione instytucje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nioskujące o przyjęcie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systenta Comeniu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Comeniu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Co to jest Asystentura Comeniusa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Akcja Programu "Uczenie się przez całe życie" – Asystentura Comeniusa promuje wyjazdy na praktykę pedagogiczno-zawodową (np. Asystenturę językową) trwającą od 3 do 10 miesięcy podczas roku szkolnego. Studenci mogą ubiegać się o wyjazd do zagranicznych szkół uprawnionych do udziału w ww. programie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Asystenci mogą wyjeżdżać do: Austrii, Belgii, Bułgarii, Czech, Cypru, Danii, Estonii, Finlandii, Francji, Grecji, Hiszpanii, Holandii, Irlandii, Islandii, </a:t>
            </a:r>
            <a:r>
              <a:rPr b="0" lang="pl-PL" sz="1900" spc="-1" strike="noStrike">
                <a:solidFill>
                  <a:srgbClr val="000000"/>
                </a:solidFill>
                <a:latin typeface="Tahoma"/>
              </a:rPr>
              <a:t>Liechtensteinu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, Litwy, Luksemburga, Łotwy, Malty, Niemiec, Norwegii, Portugalii, Rumunii, Słowacji, Słowenii, Szwecji, Turcji, Wielkiej Brytanii, Węgier i Włoch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Comeniu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ahoma"/>
              </a:rPr>
              <a:t>Akcje centralne COMENIUSA zarządzane przez Agencję Wykonawczą</a:t>
            </a: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Europejskie  projekty współprac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Projekty współpracy w zakresie szkolenia kadry edukacyjnej realizowane są przez grupy partnerskie, które składają się z uprawnionych organizacji oświatowych wywodzących się z co najmniej trzech uczestniczących w programie „Uczenie się przez całe życie krajów”, przy czym co najmniej jednym z tych krajów musi być Państwo Członkowskie UE. Efektem każdego projektu powinien być konkretny "produkt edukacyjny"- np. Program nauczania, kurs doskonalenia zawodowego dla nauczycieli, opracowanie nowoczesnej metodyki lub strategii nauczania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Sieci Tematyczn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Projekty wspierające tworzenie sieci projektów o wspólnej lub podobnej tematyce dotyczącej europejskiego wymiaru edukacji szkolnej. Celem sieci jest: pogłębienie i kontynuacja współpracy instytucji oświatowych zaangażowanych w realizację projektów Programu Comenius, stworzenie forum wymiany refleksji i doświadczeń w sferze promowania innowacji I najlepszych praktyk w różnych dziedzinach edukacji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Leonardo da Vinc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Leonardo da Vinci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Cele programu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sparcie w zdobywaniu wiedzy, umiejętności, doświadczenia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kwalifikacji na europejskim rynku pra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spieranie innowacyjnych praktyk zawodowych na poziomie innym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iż poziom szkolnictwa wyższeg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oprawa stopnia przejrzystości i uznawalności kwalifikacji oraz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kompetencji w tym nabytych w drodze kształcenia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ozaformalneg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uka branżowych języków obcych oraz dziedzictwa kulturowego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aństw europejski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Leonardo da Vinci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Główne obszary działań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staże i wymian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zwiększenie dostępu do edukacji zawodowej i kształcenia ustawiczneg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podnoszenie kwalifikacji pracownikó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poprawa jakości edukacji zawodowej i kształcenia ustawiczneg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spieranie europejskiego wymiaru edukacji zawodowej i kształcenia ustawiczneg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rozwój poradnictwa zawodowego i dostępu do informacji zawodowe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Leonardo da Vinci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rojekty mobilności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rojekty staży dla młodzieży szkolnej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Dofinansowanie do 100 % kosztów uprawnionych (od 2 do 39 tygodn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rojekty staży dla osób młodych pracowników i osób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oszukujących pracy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Dofinansowanie do 100 % kosztów uprawnionych (od 2 do 26 tygodn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rojekty wymiany doświadczeń dla nauczycieli, szkoleniowców,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doradców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</a:rPr>
              <a:t>(D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ofinansowanie do 100 % kosztów uprawnionych (od 1 do 6 tygodn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Leonardo da Vinci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rojekty 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partnerskie - priorytety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odniesienie atrakcyjności i jakości kształcenia i szkolenia zawodoweg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Rozwój i wdrażanie wspólnych narzędzi i rozwiązań w dziedzinie kształcenia i szkolenia zawodoweg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Zaangażowanie do współpracy wszystkich osób/podmiotów zainteresowanych kształceniem i doskonaleniem zawodowym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w tym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zkół zawodowych i technicznych, ale również przedsiębiorstw, partnerów społecznych, decydentów z zakresu kształcenia i szkolenia zawodowego na szczeblu lokalnym, regionalnym i lub krajowy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Leonardo da Vinci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rojekty wielostronn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rojekty transferu innowacji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Dofinansowanie do 75 % kosztów uprawnionych do 2 lat (150 tys. EUR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na r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Tworzenie innowacji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Dofinansowanie do 75 % kosztów uprawnionych do 2 lat (250 tys. EUR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na r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ieci tematyczne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Dofinansowanie do 75 % kosztów uprawnionych do 3 lat (150 tys. EUR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na rok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Podstawowe informacj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360" y="2017800"/>
            <a:ext cx="827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ifelong Learning Programme (LL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= Program Uczenie się przez całe życi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gram Unii Europejskiej w dziedzinie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dukacji (szkolnej, wyższej, zawodowej,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orosłych) i 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oskonalenia zawodoweg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ałkowity budżet Programu na lata 2007-2013 wynosi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6,97 mld EU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gencja w Polsce: Fundacja Rozwoju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ystemu Edukacji (FRS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Leonardo da Vinci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Kto może składać wniosek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- szkoły zawodowe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- instytucje kształcenia ustawicznego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- firmy szkoleniowe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- przedsiębiorstwa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- partnerzy społeczni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- podmioty świadczące usługi doradztwa zawodowego i poradnictwa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- organizacje non-prof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- organizacje pozarządow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Leonardo da Vinci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Terminy składania wniosków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rojekty mobilności - 8 lutego 20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rojekty partnerskie - 15 lutego 20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rojekty Transferu Innowacji - 14 marca 2008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Grundtvi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Grundtvig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ele programu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oprawa jakości edukacji dorosłych i rozwój oferty edukacyjnej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la dorosłych poprzez współpracę europejską, w tym mobilność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kadry i słuchaczy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dpowiadanie na wyzwania edukacyjne związane ze starzeniem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ię populacji w Europie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Zapewnianie alternatywnych możliwości dostępu do edukacji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sobom dorosłym z defaworyzowanych grup społecznych oraz tym,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które nie uzyskały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p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dstawowego wykształcenia formalneg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Grundtvig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42920" y="2060280"/>
            <a:ext cx="791208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Kto może uczestniczyć w programie 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RUNDTVIG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Każda organizacja działająca w obszarze edukacji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osób dorosły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Osoby dorosłe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 Programie Grundtvi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- osoby od 25 roku życ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- osoby w wieku 16-24 lata, które zakończyły albo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rzerwały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kształcenie formalne lub korzystają z oferty edukacyjnej dla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orosły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Grundtvig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ematyka programu GRUNDTVI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odstawowe umiejętnośc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ktywne obywatels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języki ob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środowisko i zrównoważony rozwó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ztuka i kultur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zdrowie i zagadnienia konsumenck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dukacja rodzicó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dukacja w więzienia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t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Grundtvig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58920" y="1989000"/>
            <a:ext cx="7696080" cy="41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ahoma"/>
              </a:rPr>
              <a:t>Przykładowe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Działania programu GRUNDTVIG</a:t>
            </a:r>
            <a:r>
              <a:rPr b="1" lang="pl-PL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Projekty Wielostronne 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(projekty na dużą skalę, służące opracowaniu innowacyjnych produktów edukacyjnyc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Projekty Partnerskie Grundtviga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ich celem jest rozszerzenie współpracy europejskiej pomiędzy mniejszymi organizacjami, mniej doświadczonymi we współpracy międzynarodowej, zajmującymi się edukacją dorosłyc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Indywidualne wyjazdy szkoleniowe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(In-service Training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Grants for Staff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ahoma"/>
              </a:rPr>
              <a:t>Sieci Grundtvig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Grundtvig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Terminy składania wniosków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rojekty mobilności - 31 stycznia 2008 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rojekty partnerskie - 15 lutego 2008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ojekty wielostronne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, sieci -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29 lutego 2008 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Programy horyzontal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Program międzysektorow</a:t>
            </a:r>
            <a:r>
              <a:rPr b="0" lang="pl-PL" sz="4000" spc="-1" strike="noStrike">
                <a:solidFill>
                  <a:srgbClr val="333399"/>
                </a:solidFill>
                <a:latin typeface="Tahoma"/>
              </a:rPr>
              <a:t>y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42920" y="1916280"/>
            <a:ext cx="791208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4 kluczowe działani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spółpracę strategiczną i innowacje w dziedzinie uczenia się przez całe życie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propagowanie nauki języków obcych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rozwijanie innowacyjnych treści, usług, metodologii uczenia i praktyk opartych na TIK na potrzeby uczenia się przez całe życie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upowszechnianie i wykorzystywanie wyników działań wspieranych w ramach programu oraz poprzednich programów związanych z tą dziedziną, jak również wymianę dobrych prakty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Kraje Program</a:t>
            </a:r>
            <a:r>
              <a:rPr b="0" lang="pl-PL" sz="4000" spc="-1" strike="noStrike">
                <a:solidFill>
                  <a:srgbClr val="333399"/>
                </a:solidFill>
                <a:latin typeface="Tahoma"/>
              </a:rPr>
              <a:t>u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27 krajów członkowskich</a:t>
            </a: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Unii Europejskie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kraje stowarzyszo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EFTA/EOG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(Islandia,</a:t>
            </a: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Lichtenstein i Norwegi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kraj kandydujący - </a:t>
            </a: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Turc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 przyszłości będzie możliwość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czestnictw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zwajcar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krajów Zachodnich Bałkanó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Program Jean Monne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Cele programu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tymulowanie nauczania, badań i debat w dziedzinie studiów nad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ntegracją europejsk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spieranie istnienia odpowiedniego kręgu instytucji i stowarzyszeń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zajmujących się kwestiami integracji europejskiej oraz edukacji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 szkoleń w perspektywie europejskie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Program Jean Monne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ahoma"/>
              </a:rPr>
              <a:t>Kto może uczestniczyć w programie JEAN MONNET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Studenci i badacze w dziedzinie integracji europejskiej we wszystkich rodzajach szkół i poza ni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Nauczyciele i pozostały personel tych instytucj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Stowarzyszenia i przedstawiciele osób związanych z edukacją oraz szkoleniami we Wspólnocie i poza ni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Podmioty publiczne i prywatne odpowiedzialne za organizacj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i realizację edukacji i szkoleń na poziomie lokalnym, regionalnym i krajowy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Ośrodki badawcze i podmioty zajmujące się kwestiami integracji europejskiej we Wspólnocie i poza ni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Programy horyzontaln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Terminy składania wniosków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Program Jean Monnet - 15 lutego 2008 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Program międzysektorowy - 31 marca 2008 r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pl-PL" sz="4000" spc="-1" strike="noStrike">
                <a:solidFill>
                  <a:srgbClr val="333399"/>
                </a:solidFill>
                <a:latin typeface="Tahoma"/>
              </a:rPr>
              <a:t>Kontak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Fundacja Rozwoju Systemu Edukacj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Narodowa Agencja Programu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Uczenie się przez całe życi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ul. Mokotowska 43, 00-551 Warszaw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tel: 022 622-37-12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fax: 022 622-37-10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e-mail: llp@frse.org.p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ww.llp.org.p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ww.frse.org.pl/llp/ne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16000" y="1196640"/>
            <a:ext cx="76471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333399"/>
                </a:solidFill>
                <a:latin typeface="Tahoma"/>
              </a:rPr>
              <a:t>Program MŁODZIEŻ W DZIAŁANIU</a:t>
            </a:r>
            <a:br>
              <a:rPr sz="3600"/>
            </a:br>
            <a:r>
              <a:rPr b="0" lang="pl-PL" sz="3600" spc="-1" strike="noStrike">
                <a:solidFill>
                  <a:srgbClr val="333399"/>
                </a:solidFill>
                <a:latin typeface="Tahoma"/>
              </a:rPr>
              <a:t>2007 – 2013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3635280" y="3500280"/>
            <a:ext cx="4969080" cy="23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Młodzież w Działaniu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Podstawowe informacje (1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Program Młodzież w Działaniu czerpie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z doświadczeń poprzednich programów „Młodzież dla Europy” (1989 -1999), Wolontariat Europejski oraz Programu MŁODZIEŻ (2000-200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Skupia się na kształceniu nieformalnym w wymiarze europejski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Całkowity budżet Programu na lata 2007-2013 wynosi </a:t>
            </a: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885 mln EU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Agencja w Polsce: Fundacja Rozwoju Systemu Edukacji (FRS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Młodzież w Działaniu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Podstawowe informacje (2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ioskodawca musi być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organizacją typu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non-prof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jekty mają charakter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niekomercyj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Wkład własny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iezbędny w większości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jektó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Uczestnictwo kraju z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Unii Europejskie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rak podwójnego finansowan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b"/>
                </a:solidFill>
                <a:latin typeface="Tahoma"/>
              </a:rPr>
              <a:t>Młodzież w Działaniu</a:t>
            </a:r>
            <a:br>
              <a:rPr sz="4000"/>
            </a:br>
            <a:r>
              <a:rPr b="0" lang="en-GB" sz="4000" spc="-1" strike="noStrike">
                <a:solidFill>
                  <a:srgbClr val="33339b"/>
                </a:solidFill>
                <a:latin typeface="Tahoma"/>
              </a:rPr>
              <a:t>Cele Programu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wanie aktywnego obywatelstwa młodych ludzi,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 w szczególności ich obywatelstwa europejskiego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Rozwijanie solidarności i promowanie tolerancji wśród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łodych ludzi, zwłaszcza w celu kształtowania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pójności społecznej w Unii Europejskiej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dowanie wzajemnego zrozumienia młodych ludzi z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różnych krajów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zyczynianie się do zwiększania jakości systemów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sparcia dla aktywności młodzieży i organizacji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ziałających w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połeczeństwie obywatelskim w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zakresie związanym ze sprawami młodzież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wanie współpracy europejskiej w dziedzinie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blematyki młodzież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Młodzież w Działaniu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Priorytety Programu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15640" y="2060280"/>
            <a:ext cx="78390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Obywatelstwo europejskie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Uczestnictwo młodych ludzi</a:t>
            </a: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zwiększanie 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działu ludzi młodych w życiu ich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s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ołeczności lokalnej;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zwiększanie uczestnictwa ludzi młodych w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ystemie demokracji przedstawicielskiej;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zwiększanie wsparcia dla różnych form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zenia się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czestnictwa</a:t>
            </a: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óżnorodność kulturowa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łączanie młodzieży</a:t>
            </a: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 de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faworyzowanej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Młodzież w Działaniu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Struktura Programu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Działanie 1 – Młodzież dla Euro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Działanie 2 – Wolontariat </a:t>
            </a: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 e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uropejsk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Działanie 3 – Młodzi w świeci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Działanie 4 – Systemy wspierania młodzież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Działanie 5 – Wsparcie dla współpracy</a:t>
            </a: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europejskiej w dziedzinie problematyki</a:t>
            </a: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młodzież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Struktura Programu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1001"/>
              </a:spcBef>
              <a:spcAft>
                <a:spcPts val="4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ahoma"/>
              </a:rPr>
              <a:t>Programy sektorow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814"/>
              </a:spcBef>
              <a:spcAft>
                <a:spcPts val="326"/>
              </a:spcAft>
              <a:buClr>
                <a:srgbClr val="3333cc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ahoma"/>
              </a:rPr>
              <a:t>COMENIUS – edukacja szkoln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814"/>
              </a:spcBef>
              <a:spcAft>
                <a:spcPts val="326"/>
              </a:spcAft>
              <a:buClr>
                <a:srgbClr val="3333cc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ahoma"/>
              </a:rPr>
              <a:t>ERASMUS – szkolnictwo wyższ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814"/>
              </a:spcBef>
              <a:spcAft>
                <a:spcPts val="326"/>
              </a:spcAft>
              <a:buClr>
                <a:srgbClr val="3333cc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ahoma"/>
              </a:rPr>
              <a:t>LEONARDO DA VINCI – kształcenie i szkolenie zawodow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814"/>
              </a:spcBef>
              <a:spcAft>
                <a:spcPts val="326"/>
              </a:spcAft>
              <a:buClr>
                <a:srgbClr val="3333cc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ahoma"/>
              </a:rPr>
              <a:t>GRUNDTVIG – edukacja dorosłych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Młodzież w Działaniu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Uczestni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Młode osoby między 13 a 30 rokiem życia,</a:t>
            </a: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które są obywatelami jednego z krajów</a:t>
            </a: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ogramu lub kraju</a:t>
            </a: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 p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rtnerskieg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nne podmioty aktywnie działające na polu</a:t>
            </a: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praw młodzieży i edukacji nieformalne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00000" y="214200"/>
            <a:ext cx="80438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b"/>
                </a:solidFill>
                <a:latin typeface="Tahoma"/>
              </a:rPr>
              <a:t>Młodzież w Działaniu</a:t>
            </a:r>
            <a:br>
              <a:rPr sz="4000"/>
            </a:br>
            <a:r>
              <a:rPr b="0" lang="en-GB" sz="4000" spc="-1" strike="noStrike">
                <a:solidFill>
                  <a:srgbClr val="33339b"/>
                </a:solidFill>
                <a:latin typeface="Tahoma"/>
              </a:rPr>
              <a:t>Kraje Programu i kraje </a:t>
            </a:r>
            <a:r>
              <a:rPr b="0" lang="pl-PL" sz="4000" spc="-1" strike="noStrike">
                <a:solidFill>
                  <a:srgbClr val="33339b"/>
                </a:solidFill>
                <a:latin typeface="Tahoma"/>
              </a:rPr>
              <a:t>p</a:t>
            </a:r>
            <a:r>
              <a:rPr b="0" lang="en-GB" sz="4000" spc="-1" strike="noStrike">
                <a:solidFill>
                  <a:srgbClr val="33339b"/>
                </a:solidFill>
                <a:latin typeface="Tahoma"/>
              </a:rPr>
              <a:t>artnerski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Kraje Programu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aństwa członkowskie Unii Europejskie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aństwa członkowskie EFTA/EO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urcj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Kraje partnerskie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ąsiadujące kraje partnersk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ne kraje partnerskie świata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*Współpraca z krajami partnerskimi, które podpisały porozumien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ze Wspólnotą Europejską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00000" y="214200"/>
            <a:ext cx="80438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b"/>
                </a:solidFill>
                <a:latin typeface="Tahoma"/>
              </a:rPr>
              <a:t>Młodzież w Działaniu</a:t>
            </a:r>
            <a:br>
              <a:rPr sz="4000"/>
            </a:br>
            <a:r>
              <a:rPr b="0" lang="pl-PL" sz="4000" spc="-1" strike="noStrike">
                <a:solidFill>
                  <a:srgbClr val="33339b"/>
                </a:solidFill>
                <a:latin typeface="Tahoma"/>
              </a:rPr>
              <a:t>Akcja 1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Akcja 1.1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</a:rPr>
              <a:t>Wymiany młodzieży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- dwustronne, trójstronne i wielostronne spotkania grup młodzieży z krajów uczestniczących w programi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Akcja 1.2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icjatywy Młodzieżowe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kłada się z dwóch niezależnych części: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· Inicjatyw Kajowych – kilkumiesięcznych przedsięwzięć młodzieży o charakterze lokalnym  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· Inicjatyw Międzynarodowych - działań realizowanych lokalnie przez grupy młodzieży z minimum dwóch krajów uczestniczących w Programie Młodzież w Działaniu.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Akcja 1.3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Młodzież w Demokracji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zachę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ca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młodzież do bardziej aktywnego udziału w życiu swych społeczności na poziomie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kalnym, regionalnym, ogólnokrajowym bądź na poziomie międzynarodowym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pl-PL" sz="3600" spc="-1" strike="noStrike">
                <a:solidFill>
                  <a:srgbClr val="333399"/>
                </a:solidFill>
                <a:latin typeface="Tahoma"/>
              </a:rPr>
              <a:t>Młodzież w Działaniu</a:t>
            </a:r>
            <a:br>
              <a:rPr sz="3600"/>
            </a:br>
            <a:r>
              <a:rPr b="0" lang="pl-PL" sz="3600" spc="-1" strike="noStrike">
                <a:solidFill>
                  <a:srgbClr val="333399"/>
                </a:solidFill>
                <a:latin typeface="Tahoma"/>
              </a:rPr>
              <a:t>Terminy składania wniosków – kraj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58920" y="2349000"/>
            <a:ext cx="7696080" cy="37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1187280" y="2060640"/>
          <a:ext cx="6913800" cy="4172040"/>
        </p:xfrm>
        <a:graphic>
          <a:graphicData uri="http://schemas.openxmlformats.org/drawingml/2006/table">
            <a:tbl>
              <a:tblPr/>
              <a:tblGrid>
                <a:gridCol w="3457800"/>
                <a:gridCol w="345600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rmin składania wniosk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rmin rozpoczęcia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lute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maja – 30 wrześ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kwiet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lipca – 30 listop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czerw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września – 31 stycz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wrześ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grudnia – 30 kwiet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listop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lutego – 31 lip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6560" y="214200"/>
            <a:ext cx="8116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333399"/>
                </a:solidFill>
                <a:latin typeface="Tahoma"/>
              </a:rPr>
              <a:t>Młodzież w Działaniu</a:t>
            </a:r>
            <a:br>
              <a:rPr sz="3600"/>
            </a:br>
            <a:r>
              <a:rPr b="0" lang="pl-PL" sz="3600" spc="-1" strike="noStrike">
                <a:solidFill>
                  <a:srgbClr val="333399"/>
                </a:solidFill>
                <a:latin typeface="Tahoma"/>
              </a:rPr>
              <a:t>Terminy składania wniosków – Europ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182600" y="2017800"/>
          <a:ext cx="7772400" cy="411948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58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rmin składania wnios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rmin rozpoczęcia projekt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luteg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lipca – 30 listopa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czerw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listopada – 31 mar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wrześn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stycznia – 31 lip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333399"/>
                </a:solidFill>
                <a:latin typeface="Tahoma"/>
              </a:rPr>
              <a:t>Młodzież w Działaniu</a:t>
            </a: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4400"/>
            </a:br>
            <a:r>
              <a:rPr b="0" lang="pl-PL" sz="4000" spc="-1" strike="noStrike">
                <a:solidFill>
                  <a:srgbClr val="333399"/>
                </a:solidFill>
                <a:latin typeface="Tahoma"/>
              </a:rPr>
              <a:t>Kontak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Fundacja Rozwoju Systemu Edukacj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Narodowa Agencja Programu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Uczenie się przez całe życi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ul. Mokotowska 43, 00-551 Warszawa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tel: 022 622-37-06; 022 628 60 14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fax: 022 622-37-08; 022 628 60 1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-mail: mlodziez@mlodziez.org.p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http://www.mlodziez.org.pl/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4000" y="214200"/>
            <a:ext cx="82594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b"/>
                </a:solidFill>
                <a:latin typeface="Tahoma"/>
              </a:rPr>
              <a:t>Młodzież w Działaniu</a:t>
            </a:r>
            <a:br>
              <a:rPr sz="3200"/>
            </a:br>
            <a:r>
              <a:rPr b="0" lang="en-GB" sz="3200" spc="-1" strike="noStrike">
                <a:solidFill>
                  <a:srgbClr val="33339b"/>
                </a:solidFill>
                <a:latin typeface="Tahoma"/>
              </a:rPr>
              <a:t>Ośrodek Regionalny Programu w Krakowi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Ośrodek Regionalny Programu działa w </a:t>
            </a:r>
            <a:r>
              <a:rPr b="1" lang="pl-PL" sz="2000" spc="-1" strike="noStrike">
                <a:solidFill>
                  <a:srgbClr val="000000"/>
                </a:solidFill>
                <a:latin typeface="Tahoma"/>
              </a:rPr>
              <a:t>Centru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ahoma"/>
              </a:rPr>
              <a:t>Młodzieży 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im. Henryka Jordan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ul. Basztowa 5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31-134 Krakó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tel: 12/422 52 44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fax: 12/429 65 69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e-mail: youthcm@bci.krakow.p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koordynator: </a:t>
            </a:r>
            <a:r>
              <a:rPr b="1" lang="pl-PL" sz="2000" spc="-1" strike="noStrike">
                <a:solidFill>
                  <a:srgbClr val="000000"/>
                </a:solidFill>
                <a:latin typeface="Tahoma"/>
              </a:rPr>
              <a:t>Krystyna Marcinkowsk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zakres działania: działalność informacyjna oraz prowadzeni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konsultacj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rogram</a:t>
            </a:r>
            <a:br>
              <a:rPr sz="4400"/>
            </a:b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EUROPA DLA OBYWATEL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7" name="fund-europa_obywateli" descr=""/>
          <p:cNvPicPr/>
          <p:nvPr/>
        </p:nvPicPr>
        <p:blipFill>
          <a:blip r:embed="rId1"/>
          <a:stretch/>
        </p:blipFill>
        <p:spPr>
          <a:xfrm>
            <a:off x="3851280" y="2344680"/>
            <a:ext cx="4968720" cy="25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EUROPA DLA OBYWATELI</a:t>
            </a:r>
            <a:br>
              <a:rPr sz="4400"/>
            </a:b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Cel program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Program Europa dla obywateli ma na celu promowanie aktywnego obywatelstwa europejskiego w okresie od 2007 do 2013 roku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Ogólnym 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celem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jest aktywne zaangażowanie obywateli w życie publiczne oraz proces integracji europejskiej i rozwijania ich poczucia przynależności do Europy. Inicjatywa ma przyczyniać się do poprawy wzajemnego zrozumienia między Europejczykami oraz rozwoju dialogu międzykulturoweg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EUROPA DLA OBYWATELI</a:t>
            </a:r>
            <a:br>
              <a:rPr sz="4400"/>
            </a:b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Beneficjenc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Krajami uczestniczącymi są Państwa Członkowskie UE, kraje EFTA, które są stronami Porozumienia EOG, kraje kandydujące, które korzystają ze strategii przedakcesyjnej oraz kraje Bałkanów Zachodnich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Program, stawiając w centrum obywatela, skierowany jest do wszystkich zainteresowanych stron promujących ideę społeczeństwa europejskiego, przede wszystkim do organizacji pozarządowych, stowarzyszeń, związków zawodowych, społeczności lokalnych oraz instytutów badających europejską politykę publiczną (think tanks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Struktura Programu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1001"/>
              </a:spcBef>
              <a:spcAft>
                <a:spcPts val="4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Programy horyzontalne</a:t>
            </a:r>
            <a:r>
              <a:rPr b="1" lang="pl-PL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814"/>
              </a:spcBef>
              <a:spcAft>
                <a:spcPts val="326"/>
              </a:spcAft>
              <a:buClr>
                <a:srgbClr val="3333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PROGRAM MIĘDZYSEKTOROWY</a:t>
            </a:r>
            <a:r>
              <a:rPr b="0" lang="pl-PL" sz="2600" spc="-1" strike="noStrike">
                <a:solidFill>
                  <a:srgbClr val="000000"/>
                </a:solidFill>
                <a:latin typeface="Tahoma"/>
              </a:rPr>
              <a:t> – upowszechnianie dobrych praktyk i współpraca w dziedzinie uczenia się przez całe życi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814"/>
              </a:spcBef>
              <a:spcAft>
                <a:spcPts val="326"/>
              </a:spcAft>
              <a:buClr>
                <a:srgbClr val="3333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Program JEAN MONNET</a:t>
            </a:r>
            <a:r>
              <a:rPr b="0" lang="pl-PL" sz="2600" spc="-1" strike="noStrike">
                <a:solidFill>
                  <a:srgbClr val="000000"/>
                </a:solidFill>
                <a:latin typeface="Tahoma"/>
              </a:rPr>
              <a:t> – badania i nowe metody nauczania o integracji europejskiej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15000"/>
              </a:lnSpc>
              <a:spcBef>
                <a:spcPts val="814"/>
              </a:spcBef>
              <a:spcAft>
                <a:spcPts val="32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EUROPA DLA OBYWATELI</a:t>
            </a:r>
            <a:br>
              <a:rPr sz="4400"/>
            </a:b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Działan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Skala i zakres projektów będą zależały od sytuacji społecznej, będą to między innymi: konferencje, seminaria, szkolenia, debaty ekspertów, publikacje, imprezy kulturalne, sondaże, i inn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Budżet programu na lata 2007-2013 wynosi 215 milionów EUR</a:t>
            </a: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EUROPA DLA OBYWATELI</a:t>
            </a:r>
            <a:br>
              <a:rPr sz="4400"/>
            </a:b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Działan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42920" y="2017800"/>
            <a:ext cx="791208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Działania te zostały podzielone na 4 grupy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00"/>
                </a:solidFill>
                <a:uFillTx/>
                <a:latin typeface="Tahoma"/>
              </a:rPr>
              <a:t>Działanie 1: Aktywni obywatele dla Europy (47% budżetu)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00"/>
                </a:solidFill>
                <a:uFillTx/>
                <a:latin typeface="Tahoma"/>
              </a:rPr>
              <a:t>Działanie 2: Aktywne społeczeństwo obywatelskie w Europie (29% budżetu)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Strukturalne wsparcie dla organizacji badających europejską politykę publiczną (think tanks)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Strukturalne wsparcie dla organizacji społeczeństwa obywatelskiego na poziomie europejskim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sparcie dla projektów inicjowanych przez organizacje społeczeństwa obywatelskiego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00"/>
                </a:solidFill>
                <a:uFillTx/>
                <a:latin typeface="Tahoma"/>
              </a:rPr>
              <a:t>Działanie 3: Razem dla Europy (10% budżetu)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ydarzenia medialne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00"/>
                </a:solidFill>
                <a:uFillTx/>
                <a:latin typeface="Tahoma"/>
              </a:rPr>
              <a:t>Działanie 4 (około 4% budżetu)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Działania związane z upamiętnianiem miejsc, archiwów i ofiar deportacji reżimu nazistowskiego i stalinowskiego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EUROPA DLA OBYWATELI Kontak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Punkt Kontaktowy ds. Kultury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 Departamencie Strategii Kultury i Fundusz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Europejskich Ministerstwa Kultury i Dziedzictw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Narodoweg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ul. Krakowskie Przedmieście 15/17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00-071 Warszaw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tel./faks: 022 828 37 91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e-mail: pkk.kultura@mkidn.gov.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ww.mkidn.gov.pl/pkk/fundusze1.php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b"/>
                </a:solidFill>
                <a:latin typeface="Tahoma"/>
              </a:rPr>
              <a:t>Dziękuję za uwagę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pl-PL" sz="4000" spc="-1" strike="noStrike">
                <a:solidFill>
                  <a:srgbClr val="333399"/>
                </a:solidFill>
                <a:latin typeface="Tahoma"/>
              </a:rPr>
              <a:t>Organizacja programu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9280" y="2133720"/>
            <a:ext cx="2597400" cy="158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Decyzj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PE i Rad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ustanawiając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program działań n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lata 2007-201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3708360" y="2133720"/>
            <a:ext cx="2087640" cy="158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Zaproszenie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do składania wniosków na rok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0720" y="2133720"/>
            <a:ext cx="2374920" cy="158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Przewodnik</a:t>
            </a: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i strona internetowa Agencji krajowej lub Agencji wykonawcz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26920" y="4508640"/>
            <a:ext cx="2089440" cy="172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zasady ogólne, cele i prioryt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348000" y="4508640"/>
            <a:ext cx="2735280" cy="172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część merytoryczna i administracyjno-finansowa – szczegółowe priorytety, przykładowe projekty, główne termi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516720" y="4508640"/>
            <a:ext cx="2089080" cy="172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informacje  szczegółowe: merytoryczne, techniczne, formularze wniosków i um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63640" y="393372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0" y="393372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80360" y="393372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pl-PL" sz="4000" spc="-1" strike="noStrike">
                <a:solidFill>
                  <a:srgbClr val="333399"/>
                </a:solidFill>
                <a:latin typeface="Tahoma"/>
              </a:rPr>
              <a:t>Wymagania programu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arunki ogólne otrzymania dofinansowani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Zgodność z celami i priorytetami programu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Spełnienie wymagań formalnych określonych odrębnie dla każdego programu sektorowego i horyzontalneg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Złożenie wniosku w określonym terminie, na właściwym formularzu i do właściwej instytucji zarządzającej program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spełnienie warunku minimalnego i maksymalnego okresu trwania projektu oraz minimalnej wymaganej liczby partnerów i krajó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omenius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amK</cp:lastModifiedBy>
  <dcterms:modified xsi:type="dcterms:W3CDTF">2007-12-06T05:43:40Z</dcterms:modified>
  <cp:revision>1</cp:revision>
  <dc:subject/>
  <dc:title>   Programy edukacyjne Unii Europejskiej 2007-2013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139650488</vt:r8>
  </property>
  <property fmtid="{D5CDD505-2E9C-101B-9397-08002B2CF9AE}" pid="3" name="_AuthorEmail">
    <vt:lpwstr>siekieew@ws_nt7.umk</vt:lpwstr>
  </property>
  <property fmtid="{D5CDD505-2E9C-101B-9397-08002B2CF9AE}" pid="4" name="_AuthorEmailDisplayName">
    <vt:lpwstr>Siekierzyńska Ewa</vt:lpwstr>
  </property>
  <property fmtid="{D5CDD505-2E9C-101B-9397-08002B2CF9AE}" pid="5" name="_EmailSubject">
    <vt:lpwstr>materiały na portal</vt:lpwstr>
  </property>
</Properties>
</file>