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109-E9BD-49BE-90F8-B2C3EB3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3D8-DC0A-4B76-81C7-4D91A297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7F0-A18C-4F37-8D18-28E524F8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2DB-874C-4245-8BCE-BCB43266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C28B-1188-4010-8BD3-DB9E8365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E7F-C963-4BFE-B2DE-DFFD4E34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D42E-1664-4A1D-906C-9B400DA5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2B4-BCE9-49A0-9E4A-9FCDBCB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22C-DFEE-443F-9FF0-FBC00D0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CBC-E099-49CF-BDB7-BC2C586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E259-1767-4651-9D38-CBB9406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5EF-574E-4D34-B1EB-4848AE2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77C-E39F-4138-B117-E5C78E1E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E62A-51DE-4034-B060-85F2D70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F7FA-C4CD-43C8-93A7-53EB345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9A55-B355-4531-8DFD-A3FBBDC9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04A-A60F-451B-ABF3-4CD93262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429-1C4B-46A2-A2D0-80A98F3D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2BF-DC60-4D0D-816C-C593538A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E50-5764-453D-89D8-D6600DC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48B-D1B9-4091-A97E-F6B9793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660-1719-447C-BD52-67C6C16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179-DA3A-4350-AC52-01037D3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B5F-CFAD-4DE1-8C97-EFE3EB2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E4D-7197-4560-ADC6-28CC038E5D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4DD9-A3A1-4FE5-9B16-EF00D9D88A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1 Cel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potrzebę realizacji projektu (wskaż problem/y, który/e chcesz rozwiąza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każ cel ogólny oraz cele szczegółow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zgodność celów z POKL, Planem Działań (i innymi dokumentami strategiczny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2 Grupy docelow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arakteryzuj osoby i/lub instytucje, które zostaną objęte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wybór grupy docelowej, którą obejmiesz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sposób rekrutacji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3 Dział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działania podejmowane w projekcie, zgodnie z chronologią z zadań wskazaną w budżecie i harmonogra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4 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twarde i miękkie rezultaty projektu w odniesieniu do planowanych działa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, w jaki sposób rezultaty będą monitorowane, bad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z, w jaki sposób rezultaty przyczynią się do realizacji celu projekt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TW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nalazły prac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ostały przeszk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przeprowadzonych kurs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materiałów szkolen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wydanych certyfika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MIĘKK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wiedzy, motywacji, umiejęt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janie zdo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bycie nowych umiejętn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e zdolności komunikacyj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omiar rezultató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adania ankietowe wśród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isty obec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formacje od uczestników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zdania z realizacj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3.5 Potencjał projektodawcy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 zarządzanie projekt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doświadczenie w realizacji podobnych przedsięwzięć/projek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, w jaki sposób projekt będzie zarządz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kie zaplecze techniczne oraz jaka kadra zaangażowane będą w realizację projektu (wskaż osoby/stanowiska w projek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isz przychody, jakie osiągnął beneficjent/partnerzy za poprzedni rok obro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rolę partnerów lub innych instytucji zaangażowanych w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lityki horyzontalne UE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iesienie projektu do polityk horyzontal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chrony środowisk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łeczeństwa informacyj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wnych sz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Trwałość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aliza aspektów, wpływających na trwałość przedsięwzię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finans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organizacyj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merytory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tencjalne ryzyka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ryzyk – sprecyzowanie czynników, które mogą zakłócić realizację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owe „przeszkody” w projektach miękk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hętnych do udziału w szkol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ej liczby kandydatów spełniających wymagane kry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zygnacja uczestników w trakcie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y prawne i procedur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oświadczenia zespołu projekt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MO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obowiązek rozpowszechniania informacji o projekcie i jego współfinansowaniu ze środkó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tykuły i publikacje w prasie, na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portaże w telewi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ogo na materiałach szkoleniowych,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 (Arial 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2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3" name=""/>
            <p:cNvCxnSpPr>
              <a:stCxn id="200" idx="2"/>
              <a:endCxn id="199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3T11:15:16Z</dcterms:modified>
  <cp:revision>16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09776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