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804-F739-46FF-94C4-C5A5A0D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9C5-46DE-4A44-82FC-3BBC4D97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75B-F9E5-4DAD-AAD0-611A2105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8D7-BBB6-414E-962B-4203C5FC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AF9-FFF8-41FE-8571-18EE7DD3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3FA8-EB13-44E7-A2DB-A2C4C600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9AD-7FFB-4C9A-B36A-E831BE31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8B7D-B515-4040-9451-6C4D5F34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289-E425-4511-807E-0F4D5E63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56A1-A4D0-40AD-B7BC-0A85E7E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F355-F025-458A-B13C-9714816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5CA-6CAF-49CB-B46C-414F447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E6A9-DCF5-47A1-8BD6-D8368586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E978-FB78-467E-AB30-E45EFA2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6F0F-A325-4E74-8AA2-FBDA020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C6E4-355C-4BAE-B11C-9822CC23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AB51-3099-4FD0-9B10-5B5A1A94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C51-1EB6-424A-8C2B-A607BB94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2FF-9D48-4E45-86F9-2E8E4185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1DD-CAA6-4BA8-923D-DC0B7E6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528-6350-47A2-9AA6-CF4D0813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B6B-AADF-449F-8960-6DBD593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8B3-4DEC-4E1C-99D8-D48FEB8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FB0-260A-4DE5-8CD2-FBE39364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307-1A9A-4314-AE83-E639F9E7AC7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74B0-2550-44CC-BE0D-5E4EFA6E50D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3. Opis projektu wraz  </a:t>
            </a: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 uzasadnieni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1 Miejsce realizacji projektu</a:t>
            </a:r>
            <a:r>
              <a:rPr b="0" lang="en-GB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1 Województwo – Małopol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2 Pow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3 G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4 Miejscow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5 Projekt realizowany poza granicami kr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bór z rozwijanej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2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Rodzaj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ór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rozwijanej listy typu projektu zgodnie z list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widzian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Uszczegółowieniu MRPO dla danego Dział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, je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 projekt nie wpisuje s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kładowe rodzaje projektów wskazane w Uszczegółowieniu MRPO, Beneficjent ma możliw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ania dodatkowego rodzaju projektu, który musi by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ójny z celami danego działa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 wpisania dodatkowego rodzaju projektu Beneficjent zobow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ny jest do przedstawienia stosownego uzasadnienia w odniesieniu do zgodn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projektu z celami danego działania programu,  które b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e poddane weryfikacji na etapie oceny formalnej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3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Tło i uzasadnienie koniecznośc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u istniejącego (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mocą danych liczbowych), z którego wynika potrzeba zareagowania na problem, bądź 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nięcia skutków zaistniałych problemó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punkcie tym n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wykazać 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godność zał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ń projektu ze Strategią Rozwoju Województwa na lata 2007-2013 ora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 innymi, właściwymi ze względu na zakres projektu strategiami lokalnymi lub sektorow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x. 4 tyś znaków ze spacj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4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Opis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 będzie przedmiot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, przedsta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en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ział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odejm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yc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projekcie, produk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jektu (prz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orzystaniu danych liczbowyc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 musi jednoznacznie identyfikować przedmio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 i jasno określać jego zakres rzecz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.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5 Informacja nt. stanu przygotowania projektu do realizacj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stanu zaawansowania prac nad projektem. Należy odznaczyć właściwą opcj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1 Dla projektów wymagających pozwolenia na budowę / zgłoszenia robót oraz dla projektów typu „zaprojektuj i wybudu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2 Dla projektów dotyczących dost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3 Dla projektów nieinwestycy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6 Inne podmioty zaangażowane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w realizację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realizacji projektu w formule partnerstwa należy wymienić nazwy instytucji uczestniczących w realizacji zadania wraz z krótkim opisem charakteru ich zaangażow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związków i porozumień zawieranych pomiędzy jednostkami samorządu terytorialnego należy wskazać podmioty zaangażowane, typ partnerstwa oraz krótko opisać charakter ich zaangażow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7 Cele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długofalowego oddziaływania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azanie zgodności celów projektu z „Celami działania” opisanymi dla konkretnego działania w Uszczegółowieniu MR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chowanie spójności z punktem 5.2 – Wskaźniki rezultatu realizacji projektu,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trycą logicz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4. Okres realizacji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1 Planowany termin rozpoczęcia projektu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2 Planowany termin zakończenia rzeczowego i finansowego realizacji projektu 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3 Uzasadnienie w przypadku przekroczenia 24 miesięcznego okresu (max. do 36 miesięcy), np. względy techniczne lub technologiczne, które uniemożliwiają realizację projektu w czasie krótszym niż 24 miesią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5. Wskaźnik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1 Wskaźniki produk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pośredni, materialny efekt realizacji przedsięwzięcia mierzony konkretnymi wielkościami, np. 4 km zmodernizowanej drogi, 1 wybudowany obiekt sportow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2 Wskaźniki rezultat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wpływ zrealizowanego przedsięwzięcia na otoczenie społeczno – ekonomiczne uzyskany bezpośrednio po zakończeniu realizacji projektu, np. skrócenie czasu przejazdu, liczba użytkowni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6. Planowane wydatki projektu</a:t>
            </a: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  (liczbowo i słownie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1 Całkowita wartość projektu (brutto) – suma kosztów kwalifikowanych i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2 Całkowita wartość kosztów kwalifikowa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przygotowawcze (np. dokumentacja techniczna, przygotowanie postępowania w zakresie zamówienia publicznego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inwestycyjne (roboty budowlane, montażowe, zakup sprzętu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ozostałe koszty (np. promoc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szkoleniowe w ramach cross- financ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3 Całkowita wartość kosztów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7. Źródła finansowania projektu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(koszty kwalifikowane, zob. punkt 6.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 Wnioskowana kwota dofinansowan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EFRR w ujęciu kwotowym i procentow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 Wkład krajowy to suma środ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1 Wkład własny beneficj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2 Inne źródła dofinansow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 Opis źródeł pokrycia krajowego wkładu do projektu (o których mowa w punkcie 7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8. Pomoc publiczna uzyskana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i planowana do uzyskani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kazanie czy na realizację przedmiot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u uzyskał do tej pory wsparcie w formie pomocy publ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9. Trwałość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Sposób wykorzystania i finansowania projektu po zakończeniu jeg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osób wykorzystania i finansowania projektu po zakończeniu jego realiz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aka jest zdolność instytucjonalna Beneficjenta do realizacji projektu (jakie jest jego doświad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ruktura organizacyjna gwarantująca prawidłowe utrzymanie produktów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Czy przewidywane są dochody w trakcie realizacji projektu i/lub po jego zakończeniu (TAK/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0. Dodatkowe informacje wymagane regulaminem konkurs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przeznaczony jest na dodatkowe informacje wymagane regulaminem konkursu dla poszczególnych Działań M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1. Załącznik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służy identyfikacji załączników dostarczanych jako uzupełnienie informacji zawartych w karcie lub też wymaganych zapisami programu operacyjnego i/lub regulaminem konkur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leży wybrać z listy rozwijanej odpowiednie załączniki dołączone do karty projekt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0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11" name=""/>
            <p:cNvCxnSpPr>
              <a:stCxn id="208" idx="2"/>
              <a:endCxn id="207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4T12:42:44Z</dcterms:modified>
  <cp:revision>31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4621599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