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06F-CE74-42E7-9FAA-6E3966AF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B77-D984-44A8-8E0E-66916A09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C68-98DA-4D9D-ABDC-1318DC5A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CC6E-9921-4B64-B1A2-298226F5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2E4B-4C4B-4550-B416-543691FE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98FC-8F65-4CC0-AFFA-3B67826F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A9F6-14C0-48C3-925F-91F42D18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4E4C-0EC1-4548-89B5-3C5EDBED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DCE3-42FA-49FA-98FB-1B2A5857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D2B2-1157-48B7-9B92-37737948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8FF1-89DD-4B40-8249-F555FE30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897-744E-4471-9C28-C6B2492F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AFC7-A513-4522-BBAD-B361FFD8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71F7-E304-4EBE-B82F-165A2503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6297-E9FE-4119-8CA4-CCE0B87F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F24E-870B-4619-8F7E-8B982B85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03F3-936D-4F1C-9992-4E43E80E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1F4-E6AF-480F-97FD-C9DC54BF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D0A-CDA3-41ED-9C06-09D800A1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626-78D2-4894-BD11-242FB656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258-9ABE-4D58-9BB6-CB8453C9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517-241E-4107-9C37-CD7E1155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021-A41B-4CD0-94E0-A7E33B95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8776-B2A9-4319-B9CA-6E5577B5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8B36-D756-422F-ABA9-31AB096284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CC68-A32E-46E2-ACF3-A829D44350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6471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Programy edukacyjne</a:t>
            </a: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Unii Europejskiej 2007-201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80000" y="3284640"/>
            <a:ext cx="5364000" cy="23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ele programu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ozwijanie wiedzy o różnorodności kultur i języków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uropejskich oraz zrozumienia jej wartości wśród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łodzieży i kadry nauczycielski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maganie młodym ludziom w nabyciu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dstawowych umiejętności i kompetencji życiowyc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iezbędnych dla rozwoju osobistego, przyszł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zatrudnienia 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tywnego obywatelstw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uropejski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rogram Comenius jest skierowany 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uczniów korzystających z edukacji szkolnej do końca szkoły średniej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zkół określonych przez państwa członkowskie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auczycieli i pozostałego personelu tych szkół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owarzyszeń, organizacji non profit, organizacji pozarządowych i przedstawicieli podmiotów związanych z oświatą szkolną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sób oraz podmiotów odpowiedzialnych za organizację i realizację oświaty i edukację na poziomie lokalnym, regionalnym i krajowym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odmiotów oferujących usługi w zakresie doradztwa zawodowego i poradnictwa, związane z jakimkolwiek aspektem uczenia się przez całe życ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kcje zdecentralizowane Comeniusa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zarządzane przez Narodową Agencję Programu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nerskie projekty szkó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elostronn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ustron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ursy doskonalenia zawodow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la kadry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dukacyjn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ystentura Comeniu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artnerskie projekty szkół – priorytety narodow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na 2008 ro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Wspieranie działań w zakresie wychowania przedszkolneg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większenie liczby projektów w szkołach, w których uczą się dzieci młodzież ze specjalnymi potrzebami edukacyjnymi (szkoły integracyjne, specjalne, szkoły przy ośrodkach szkolno-wychowawczych i socjoterapeutycznych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omowanie szkół z województw o najmniejszej liczbie dotychczas zrealizowanych projektó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artnerskie projekty szkół – informacje ogól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zas trwania projektu – 2 lata (2008 – 201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rmin składania wniosków – 16 lutego 2008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wota dofinansowa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jektu je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kwotą ryczałtow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określana na podstawie ilości wyjazdów zagraniczn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wota dofinansowa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jes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ypłacona transzach- I rata w wysokości 80%, II rata (20%)  po złożeniu i zatwierdzeniu przez Narodową Agencję końcowego raportu merytoryczneg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Kto może uczestniczyć w Partnerskich Projektach Szkół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ubliczne i niepubliczn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unkcjonujące w systemie oświaty (art. 2 ustawy o systemie oświaty), gdzie realizowany jest obowiązek przedszkolny, szkolny oraz obowiązek nauki tj.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Przedszkol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 z oddziałami integracyjnymi oraz przedszkola specjal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odstawow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: specjalne, integracyjne, z oddziałami integracyjnymi i sportowymi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Gimnazj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: specjalne, integracyjne, z oddziałami integracyjnymi, dwujęzycznymi, sportowymi i przysposabiającymi do pracy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onadgimnazjaln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la młodzieży – zasadnicze szkoły zawodowe, licea ogólnokształcące, licea profilowane, technika – w tym: specjalne, integracyjne, z oddziałami integracyjnymi, dwujęzycznymi i sportowymi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Artystyczne I i II stopni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- realizujące kształcenie ogólnokształcące łącznie z kształceniem artystyczny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1989000"/>
            <a:ext cx="45864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artnerskie projekty szkó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112600">
            <a:off x="3779640" y="2565360"/>
            <a:ext cx="485640" cy="719280"/>
          </a:xfrm>
          <a:prstGeom prst="downArrow">
            <a:avLst>
              <a:gd name="adj1" fmla="val 50000"/>
              <a:gd name="adj2" fmla="val 37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9420200">
            <a:off x="5292720" y="2565000"/>
            <a:ext cx="485640" cy="692280"/>
          </a:xfrm>
          <a:prstGeom prst="downArrow">
            <a:avLst>
              <a:gd name="adj1" fmla="val 50000"/>
              <a:gd name="adj2" fmla="val 35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429000"/>
            <a:ext cx="381636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Projekty dwustr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wi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lacówki edukacyjne z dwóch różnych kraj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el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– główni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mowanie nauki języków obc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 najmniej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jedna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wymian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uczni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max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lub 20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tysięcy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3429000"/>
            <a:ext cx="396108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ojekty wielostro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inimum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z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placówki z minimum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zech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różnych kraj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ojekt może obejmować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współpracę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uczniów lub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adr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pedagogiczn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ej w zakresie m.in.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zarządzan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szkołą; metodyk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; zagadnień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wychowawcz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h;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filaktyk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max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8 lub 20 tysięcy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ursy doskonalenia zawodowego – dofinansowanie kr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o krok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Wybór kurs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Rezerwacja miejsca u organizatora (bez opłaty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Wypełnienie formularza aplikacyjneg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zesłanie zgodnie z harmonogramem zgłoszeń, do Narodowej Agencji następujących dokumentów: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formularz aplikacyjn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(dwa egzemplarze w języku polskim)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zaświadczenie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o wstępnej rezerwacji miejsca na kursie od jego organizatora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rekomendacja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od dyrektora szkoły w języku polskim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program kursu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formularz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„Informacje o wnioskodawcy i wybranym kursie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Każdy kandydat zostanie powiadomiony listownie o akceptacji lub odrzuceniu wniosk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o powrocie należy rozliczyć się z grantu zgodnie z zasadami określonymi w umowi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Kto może uczestniczyć w kursach doskonalenia zawodoweg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uczyciele (uwzględniając nauczanie przedszkolne i zawodow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yrektorzy szkó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acownicy oświatowej komórki organu prowadzącego szkoł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izytatorzy lub osoby wykonujące zadania w zakresie nadzo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dagogiczn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radcy zawodow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uczyciele/pracownicy pracujący z dziećmi zagrożony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rginalizacją społeczn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Zasady obliczania i rozliczania grant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Grant składa się z trzech części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pokrycie kosztów podróży z miejsca zamieszkania do miejsca kursu i z powrotem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opłatę szkolenia/kursu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utrzymanie (zakwaterowanie, wyżywienie i przejazdy lokalne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80% grantu wypłacane jest uczestnikowi przed rozpoczęciem kursu pozostałe 20% po rozliczeniu udziału w kursi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7936200" cy="24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Program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UCZENIE SIĘ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2007 – 201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fund-lifelong" descr=""/>
          <p:cNvPicPr/>
          <p:nvPr/>
        </p:nvPicPr>
        <p:blipFill>
          <a:blip r:embed="rId1"/>
          <a:stretch/>
        </p:blipFill>
        <p:spPr>
          <a:xfrm>
            <a:off x="3714840" y="3789360"/>
            <a:ext cx="44575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916280"/>
            <a:ext cx="763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Harmonogram składania wniosków 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dofinansowanie kursó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00000" y="3068640"/>
          <a:ext cx="7479000" cy="2448000"/>
        </p:xfrm>
        <a:graphic>
          <a:graphicData uri="http://schemas.openxmlformats.org/drawingml/2006/table">
            <a:tbl>
              <a:tblPr/>
              <a:tblGrid>
                <a:gridCol w="3882960"/>
                <a:gridCol w="359604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złożenia formular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kur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31 stycznia 20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kwietnia - 30 czerw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 - 31 mar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- 30 wrześ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kwietnia - 30 czerw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października - 31 grud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lipca - 30 wrześ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stycznia - 31 marca 200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8920" y="2017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Kto może uczestniczyć w Asystenturze Comenius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zyszli nauczycie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udenci kierunków prowadzących do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dobycia kwalifikacji w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awodzie nauczycie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zkoły polskie/uprawnione instytucj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nioskujące o przyjęci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ystenta Comeni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o to jest Asystentura Comenius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a Programu "Uczenie się przez całe życie" – Asystentura Comeniusa promuje wyjazdy na praktykę pedagogiczno-zawodową (np. Asystenturę językową) trwającą od 3 do 10 miesięcy podczas roku szkolnego. Studenci mogą ubiegać się o wyjazd do zagranicznych szkół uprawnionych do udziału w ww. programi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systenci mogą wyjeżdżać do: Austrii, Belgii, Bułgarii, Czech, Cypru, Danii, Estonii, Finlandii, Francji, Grecji, Hiszpanii, Holandii, Irlandii, Islandii, </a:t>
            </a:r>
            <a:r>
              <a:rPr b="0" lang="pl-PL" sz="1900" spc="-1" strike="noStrike">
                <a:solidFill>
                  <a:srgbClr val="000000"/>
                </a:solidFill>
                <a:latin typeface="Tahoma"/>
              </a:rPr>
              <a:t>Liechtensteinu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, Litwy, Luksemburga, Łotwy, Malty, Niemiec, Norwegii, Portugalii, Rumunii, Słowacji, Słowenii, Szwecji, Turcji, Wielkiej Brytanii, Węgier i Włoch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Akcje centralne COMENIUSA zarządzane przez Agencję Wykonawczą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Europejskie  projekty współpra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y współpracy w zakresie szkolenia kadry edukacyjnej realizowane są przez grupy partnerskie, które składają się z uprawnionych organizacji oświatowych wywodzących się z co najmniej trzech uczestniczących w programie „Uczenie się przez całe życie krajów”, przy czym co najmniej jednym z tych krajów musi być Państwo Członkowskie UE. Efektem każdego projektu powinien być konkretny "produkt edukacyjny"- np. Program nauczania, kurs doskonalenia zawodowego dla nauczycieli, opracowanie nowoczesnej metodyki lub strategii nauczan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ieci Tematycz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y wspierające tworzenie sieci projektów o wspólnej lub podobnej tematyce dotyczącej europejskiego wymiaru edukacji szkolnej. Celem sieci jest: pogłębienie i kontynuacja współpracy instytucji oświatowych zaangażowanych w realizację projektów Programu Comenius, stworzenie forum wymiany refleksji i doświadczeń w sferze promowania innowacji I najlepszych praktyk w różnych dziedzinach edukacj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gramy horyzontal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międzysektorow</a:t>
            </a: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91208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4 kluczowe działan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spółpracę strategiczną i innowacje w dziedzinie uczenia się przez całe życie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pagowanie nauki języków obcych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ozwijanie innowacyjnych treści, usług, metodologii uczenia i praktyk opartych na TIK na potrzeby uczenia się przez całe życie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powszechnianie i wykorzystywanie wyników działań wspieranych w ramach programu oraz poprzednich programów związanych z tą dziedziną, jak również wymianę dobrych prakty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Jean Monn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ele program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ymulowanie nauczania, badań i debat w dziedzinie studiów nad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egracją europejsk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spieranie istnienia odpowiedniego kręgu instytucji i stowarzyszeń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ajmujących się kwestiami integracji europejskiej oraz edukacji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 szkoleń w perspektywie europejski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Jean Monn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to może uczestniczyć w programie JEAN MONNE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udenci i badacze w dziedzinie integracji europejskiej we wszystkich rodzajach szkół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auczyciele i pozostały personel tych instytuc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owarzyszenia i przedstawiciele osób związanych z edukacją oraz szkoleniami we Wspólnocie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odmioty publiczne i prywatne odpowiedzialne za organizacj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 realizację edukacji i szkoleń na poziomie lokalnym, regionalnym i krajowy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środki badawcze i podmioty zajmujące się kwestiami integracji europejskiej we Wspólnocie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y horyzontal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Terminy składania wniosków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Jean Monnet - 15 lutego 2008 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międzysektorowy - 31 marca 2008 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Kontak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undacja Rozwoju Systemu Edukac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a Agencja Program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czenie się przez całe życi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Mokotowska 43, 00-551 Warsza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: 022 622-37-12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ax: 022 622-37-10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-mail: llp@frse.org.p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llp.org.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frse.org.pl/llp/n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felong Learning Programme (LL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 Program Uczenie się przez całe życ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gram Unii Europejskiej w dziedzini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dukacji (szkolnej, wyższej, zawodowej,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orosłych) i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skonalenia zawodowe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łkowity budżet Programu na lata 2007-2013 wynosi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6,97 mld 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gencja w Polsce: Fundacja Rozwoju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ystemu Edukacji (FR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6471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Program 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2007 – 201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635280" y="3500280"/>
            <a:ext cx="49690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Młodzież w Działaniu czerp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 doświadczeń poprzednich programów „Młodzież dla Europy” (1989 -1999), Wolontariat Europejski oraz Programu MŁODZIEŻ (2000-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kupia się na kształceniu nieformalnym w wymiarze europejsk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Całkowity budżet Programu na lata 2007-2013 wynosi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885 mln 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gencja w Polsce: Fundacja Rozwoju Systemu Edukacji (FR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ioskodawca musi być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rganizacją typu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on-prof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kty mają charakter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iekomercyj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Wkład własny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iezbędny w większości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któ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czestnictwo kraju z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Unii Europejski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ak podwójnego finansowa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Cele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wanie aktywnego obywatelstwa młodych ludzi,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w szczególności ich obywatelstwa europejskiego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ozwijanie solidarności i promowanie tolerancji wśród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łodych ludzi, zwłaszcza w celu kształtowani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ójności społecznej w Unii Europejskie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dowanie wzajemnego zrozumienia młodych ludzi z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óżnych krajów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zyczynianie się do zwiększania jakości systemó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parcia dla aktywności młodzieży i organizacji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ziałających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ołeczeństwie obywatelskim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akresie związanym ze sprawami młodzież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wanie współpracy europejskiej w dziedzini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blematyki młodzież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iorytety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5640" y="2060280"/>
            <a:ext cx="7839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bywatelstwo europejski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czestnictwo młodych ludzi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działu ludzi młodych w życiu ich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łeczności lokalnej;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uczestnictwa ludzi młodych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ystemie demokracji przedstawicielskiej;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wsparcia dla różnych form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zenia się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czestnictwa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óżnorodność kulturow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łączanie młodzieży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d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woryzowanej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Akcja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1 – Młodzież dla Euro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Akcja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2 – Wolontariat 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 e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uropejs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Akcja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3 – Młodzi w świec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Akcja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4 – Systemy wspierania młodzież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Akcja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5 – Wsparcie dla współpracy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europejskiej w dziedzinie problematyki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młodzież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czestn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łode osoby między 13 a 30 rokiem życia,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tóre są obywatelami jednego z krajów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gramu lub kraju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rtnerski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ne podmioty aktywnie działające na polu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praw młodzieży i edukacji nieformalne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Kraje Programu i kraje </a:t>
            </a:r>
            <a:r>
              <a:rPr b="0" lang="pl-PL" sz="4000" spc="-1" strike="noStrike">
                <a:solidFill>
                  <a:srgbClr val="33339b"/>
                </a:solidFill>
                <a:latin typeface="Tahoma"/>
              </a:rPr>
              <a:t>p</a:t>
            </a: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artnerski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raje Program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ństwa członkowskie Unii Europejski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ństwa członkowskie EFTA/E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urc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raje partnerski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ąsiadujące kraje partnersk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ne kraje partnerskie świata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*Współpraca z krajami partnerskimi, które podpisały porozumien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ze Wspólnotą Europejsk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pl-PL" sz="4000" spc="-1" strike="noStrike">
                <a:solidFill>
                  <a:srgbClr val="33339b"/>
                </a:solidFill>
                <a:latin typeface="Tahoma"/>
              </a:rPr>
              <a:t>Akcja 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a 1.1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Wymiany młodzieży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- dwustronne, trójstronne i wielostronne spotkania grup młodzieży z krajów uczestniczących w program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a 1.2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icjatywy Młodzieżow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kłada się z dwóch niezależnych części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· Inicjatyw Krajowych – kilkumiesięcznych przedsięwzięć młodzieży o charakterze lokalnym  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· Inicjatyw Międzynarodowych - działań realizowanych lokalnie przez grupy młodzieży z minimum dwóch krajów uczestniczących w Programie Młodzież w Działaniu.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a 1.3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łodzież w Demokracji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zachę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młodzież do bardziej aktywnego udziału w życiu swych społeczności na poziomi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kalnym, regionalnym, ogólnokrajowym bądź na poziomie międzynarodowy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pl-PL" sz="4400" spc="-1" strike="noStrike">
                <a:solidFill>
                  <a:srgbClr val="33339b"/>
                </a:solidFill>
                <a:latin typeface="Tahoma"/>
              </a:rPr>
              <a:t>Akcja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Wolontariat Europejsk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(European Voluntary Service – EVS) umożliwia wolontariuszowi lub grupie wolontariuszy podjęcie pracy społecznej we wszystkich Krajach Programu i Sąsiedzkich Krajach Partnerskich. EVS powstał po to, by wolontariusze mogli zdobywać kompetencje i umiejętności wpływające na ich rozwój osobisty i zawodowy przez doświadczenia związane z edukacją pozaformalną. W Wolontariacie Europejskim może uczestniczyć każdy młody człowiek w wieku od 18 do 30 lat, w szczególnych sytuacjach możliwy jest udział młodzieży w wieku 16 - 17 la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Kraje Program</a:t>
            </a: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7 krajów członkowskich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Unii Europejskie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raje stowarzysz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EFTA/EOG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(Islandia,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chtenstein i Norweg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raj kandydujący -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urc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 przyszłości będzie możliwość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czestnictw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zwajcar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rajów Zachodnich Bałkan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pl-PL" sz="4400" spc="-1" strike="noStrike">
                <a:solidFill>
                  <a:srgbClr val="33339b"/>
                </a:solidFill>
                <a:latin typeface="Tahoma"/>
              </a:rPr>
              <a:t>Akcja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Młodzi w świecie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jest Akcją promującą wymianę i współpracę z regionami leżącymi poza UE i krajami nie należącymi do Krajów Programu. Wspiera projekty angażujące młodych ludzi i organizacje z Krajów Partnerskich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pl-PL" sz="4400" spc="-1" strike="noStrike">
                <a:solidFill>
                  <a:srgbClr val="33339b"/>
                </a:solidFill>
                <a:latin typeface="Tahoma"/>
              </a:rPr>
              <a:t>Akcja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Akcja 4 -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Systemy wspierania młodzież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spiera działania organizacji promujących aktywne obywatelstwo na poziomie lokalnym, krajowym i międzynarodowy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feruje szkolenia, seminaria i staże dla osób pracujących z młodzież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możliwia wymianę doświadczeń, promocję dobrych praktyk oraz zdobywa­nie nowych kompetencj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oże w niej uczestniczyć zarówno młodzież jak i osoby pracujące z młodymi ludźmi (bez względu na wie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pl-PL" sz="4400" spc="-1" strike="noStrike">
                <a:solidFill>
                  <a:srgbClr val="33339b"/>
                </a:solidFill>
                <a:latin typeface="Tahoma"/>
              </a:rPr>
              <a:t>Akcja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Akcja 5 -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sparcie dla współpracy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europejskiej w dziedzinie problematyki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łodzieży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wspiera dialog młodzieży z osobami odpowiedzialnymi za kreowanie polityki młodzieżowej w Europie oraz europejską współpracę w zakresie problematyki i działań młodzieżowych.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Składa się z trzech podakcj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i 5.1 –  Spotkania młodzieży i osób odpowiedzialnych za politykę młodzieżową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i 5.2 –  Wsparcie działań mających pogłębić zrozumienie problematyki i działań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młodzieżowych oraz wiedzę w tym zakresie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i 5.3 –  Współpraca z organizacjami międzynarodowy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Terminy składania wniosków – kraj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58920" y="2349000"/>
            <a:ext cx="769608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187280" y="2060640"/>
          <a:ext cx="6913800" cy="4172040"/>
        </p:xfrm>
        <a:graphic>
          <a:graphicData uri="http://schemas.openxmlformats.org/drawingml/2006/table">
            <a:tbl>
              <a:tblPr/>
              <a:tblGrid>
                <a:gridCol w="3457800"/>
                <a:gridCol w="3456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składania wnio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aja – 30 wrześ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kwiet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– 30 listop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czerw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 – 31 stycz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grudnia – 30 kwiet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stop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 – 31 lip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Terminy składania wniosków – Europ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82600" y="2017800"/>
          <a:ext cx="7772400" cy="41194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składania wnios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proje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– 30 listop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czerw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stopada – 31 mar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stycznia – 31 lip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Kontak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undacja Rozwoju Systemu Edukac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a Agencja Program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czenie się przez całe życi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Mokotowska 43, 00-551 Warszawa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: 022 622-37-06; 022 628 60 1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ax: 022 622-37-08; 022 628 60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-mail: mlodziez@mlodziez.org.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ttp://www.mlodziez.org.pl/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000" y="214200"/>
            <a:ext cx="8259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3200"/>
            </a:br>
            <a:r>
              <a:rPr b="0" lang="en-GB" sz="3200" spc="-1" strike="noStrike">
                <a:solidFill>
                  <a:srgbClr val="33339b"/>
                </a:solidFill>
                <a:latin typeface="Tahoma"/>
              </a:rPr>
              <a:t>Ośrodek Regionalny Programu w Krakowi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środek Regionalny Programu działa w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Centru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Młodzieży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m. Henryka Jordan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ul. Basztowa 5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31-134 Krak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tel: 12/422 52 44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fax: 12/429 65 6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e-mail: youthcm@bci.krakow.p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koordynator: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rystyna Marcinkows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akres działania: działalność informacyjna oraz prowadzen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konsultac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rogram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7" name="fund-europa_obywateli" descr=""/>
          <p:cNvPicPr/>
          <p:nvPr/>
        </p:nvPicPr>
        <p:blipFill>
          <a:blip r:embed="rId1"/>
          <a:stretch/>
        </p:blipFill>
        <p:spPr>
          <a:xfrm>
            <a:off x="3851280" y="2344680"/>
            <a:ext cx="49687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Cel progra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gram Europa dla obywateli ma na celu promowanie aktywnego obywatelstwa europejskiego w okresie od 2007 do 2013 rok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gólnym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celem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jest aktywne zaangażowanie obywateli w życie publiczne oraz proces integracji europejskiej i rozwijania ich poczucia przynależności do Europy. Inicjatywa ma przyczyniać się do poprawy wzajemnego zrozumienia między Europejczykami oraz rozwoju dialogu międzykulturowe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Beneficjen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rajami uczestniczącymi są Państwa Członkowskie UE, kraje EFTA, które są stronami Porozumienia EOG, kraje kandydujące, które korzystają ze strategii przedakcesyjnej oraz kraje Bałkanów Zachodnich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gram, stawiając w centrum obywatela, skierowany jest do wszystkich zainteresowanych stron promujących ideę społeczeństwa europejskiego, przede wszystkim do organizacji pozarządowych, stowarzyszeń, związków zawodowych, społeczności lokalnych oraz instytutów badających europejską politykę publiczną (think tanks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Programy sektorow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COMENIUS – edukacja szkoln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ERASMUS – szkolnictwo wyższ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LEONARDO DA VINCI – kształcenie i szkolenie zawodow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GRUNDTVIG – edukacja dorosły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Działa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kala i zakres projektów będą zależały od sytuacji społecznej, będą to między innymi: konferencje, seminaria, szkolenia, debaty ekspertów, publikacje, imprezy kulturalne, sondaże, i inn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Budżet programu na lata 2007-2013 wynosi 215 milionów EUR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Działa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Działania te zostały podzielone na 4 grupy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1: Aktywni obywatele dla Europy (47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2: Aktywne społeczeństwo obywatelskie w Europie (29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trukturalne wsparcie dla organizacji badających europejską politykę publiczną (think tanks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trukturalne wsparcie dla organizacji społeczeństwa obywatelskiego na poziomie europejski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sparcie dla projektów inicjowanych przez organizacje społeczeństwa obywatelskieg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3: Razem dla Europy (10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ydarzenia medialn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4 (około 4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ziałania związane z upamiętnianiem miejsc, archiwów i ofiar deportacji reżimu nazistowskiego i stalinowskieg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 Konta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unkt Kontaktowy ds. Kultur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Departamencie Strategii Kultury i Fundusz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uropejskich Ministerstwa Kultury i Dziedzict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Krakowskie Przedmieście 15/1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00-071 Warszaw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./faks: 022 828 37 9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-mail: pkk.kultura@mkidn.gov.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mkidn.gov.pl/pkk/fundusze1.ph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Dziękuję za uwag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rogramy horyzontalne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GRAM MIĘDZYSEKTOROWY</a:t>
            </a: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 – upowszechnianie dobrych praktyk i współpraca w dziedzinie uczenia się przez całe życi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gram JEAN MONNET</a:t>
            </a: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 – badania i nowe metody nauczania o integracji europejskiej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Organizacj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259740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Decyz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E i Ra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ustanawiają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ogram działań 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lata 2007-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2133720"/>
            <a:ext cx="208764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Zaproszeni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do składania wniosków na rok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0720" y="2133720"/>
            <a:ext cx="237492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rzewodnik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 strona internetowa Agencji krajowej lub Agencji wykonawcz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4508640"/>
            <a:ext cx="208944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zasady ogólne, cele i prioryt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4508640"/>
            <a:ext cx="27352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zęść merytoryczna i administracyjno-finansowa – szczegółowe priorytety, przykładowe projekty, główne term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16720" y="4508640"/>
            <a:ext cx="20890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nformacje  szczegółowe: merytoryczne, techniczne, formularze wniosków i um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8036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Wymagani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arunki ogólne otrzymania dofinansowan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godność z celami i priorytetami program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pełnienie wymagań formalnych określonych odrębnie dla każdego programu sektorowego i horyzontalne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łożenie wniosku w określonym terminie, na właściwym formularzu i do właściwej instytucji zarządzającej program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pełnienie warunku minimalnego i maksymalnego okresu trwania projektu oraz minimalnej wymaganej liczby partnerów i kraj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eniu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ia</cp:lastModifiedBy>
  <dcterms:modified xsi:type="dcterms:W3CDTF">2007-12-06T07:10:29Z</dcterms:modified>
  <cp:revision>2</cp:revision>
  <dc:subject/>
  <dc:title>   Programy edukacyjne Unii Europejskiej 2007-20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22579422</vt:r8>
  </property>
  <property fmtid="{D5CDD505-2E9C-101B-9397-08002B2CF9AE}" pid="3" name="_AuthorEmail">
    <vt:lpwstr>siekieew@ws_nt7.umk</vt:lpwstr>
  </property>
  <property fmtid="{D5CDD505-2E9C-101B-9397-08002B2CF9AE}" pid="4" name="_AuthorEmailDisplayName">
    <vt:lpwstr>Siekierzyńska Ewa</vt:lpwstr>
  </property>
  <property fmtid="{D5CDD505-2E9C-101B-9397-08002B2CF9AE}" pid="5" name="_EmailSubject">
    <vt:lpwstr>materiały na portal</vt:lpwstr>
  </property>
</Properties>
</file>